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highchime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EE1-B86A-4BFC-8AEF-1729DC25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77D-63C0-4573-8917-CA0B22D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E02-8901-49F8-8521-2FADBA08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B85-7A2A-4FFB-B9F6-8A9C258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F43-876F-414D-A0EC-2445DC4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3FB-4EED-4A58-A07A-F98BF943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421-FB62-4BF5-8F34-40023D4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1F1-EF2D-471F-B2DB-96E95C8D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293-3AFC-4F81-BC56-EE4EB96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72A-5EF9-4573-9337-826C2EA9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8EC-2F0B-4361-9D3E-A9E4CDE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0E1-35BC-4FC4-B57B-73CBCC2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5AD-849C-4A8A-80FA-807A399B0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5760" y="137304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 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/>
          <p:nvPr/>
        </p:nvCxnSpPr>
        <p:spPr>
          <a:xfrm>
            <a:off x="2898720" y="216360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"/>
          <p:cNvCxnSpPr/>
          <p:nvPr/>
        </p:nvCxnSpPr>
        <p:spPr>
          <a:xfrm flipH="1">
            <a:off x="2437920" y="217440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73240" y="247644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16240" y="2490840"/>
                <a:ext cx="662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8" name=""/>
          <p:cNvCxnSpPr/>
          <p:nvPr/>
        </p:nvCxnSpPr>
        <p:spPr>
          <a:xfrm>
            <a:off x="3608280" y="305748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"/>
          <p:cNvCxnSpPr/>
          <p:nvPr/>
        </p:nvCxnSpPr>
        <p:spPr>
          <a:xfrm flipH="1">
            <a:off x="3147480" y="306828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95760" y="3357720"/>
                <a:ext cx="455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916440" y="3363840"/>
                <a:ext cx="412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2" name=""/>
          <p:cNvCxnSpPr/>
          <p:nvPr/>
        </p:nvCxnSpPr>
        <p:spPr>
          <a:xfrm>
            <a:off x="4197240" y="3951000"/>
            <a:ext cx="364320" cy="324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H="1">
            <a:off x="3736440" y="3962520"/>
            <a:ext cx="332640" cy="29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38360" y="427824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9440" y="431172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36840" y="1538280"/>
                <a:ext cx="2995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329520" y="1471680"/>
                <a:ext cx="187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5760" y="137304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.  9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2898720" y="216360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 flipH="1">
            <a:off x="2437920" y="217440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73240" y="247644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74840" y="2470320"/>
                <a:ext cx="744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5" name=""/>
          <p:cNvCxnSpPr/>
          <p:nvPr/>
        </p:nvCxnSpPr>
        <p:spPr>
          <a:xfrm>
            <a:off x="3608280" y="305748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" name=""/>
          <p:cNvCxnSpPr/>
          <p:nvPr/>
        </p:nvCxnSpPr>
        <p:spPr>
          <a:xfrm flipH="1">
            <a:off x="3147480" y="306828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95760" y="3336840"/>
                <a:ext cx="455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95560" y="3363840"/>
                <a:ext cx="454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60680" y="1552680"/>
                <a:ext cx="2340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08680" y="1471680"/>
                <a:ext cx="187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36880" y="138744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4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2"/>
          </p:cNvCxnSpPr>
          <p:nvPr/>
        </p:nvCxnSpPr>
        <p:spPr>
          <a:xfrm>
            <a:off x="2501640" y="2301840"/>
            <a:ext cx="92916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2"/>
          </p:cNvCxnSpPr>
          <p:nvPr/>
        </p:nvCxnSpPr>
        <p:spPr>
          <a:xfrm flipH="1">
            <a:off x="1559880" y="2301480"/>
            <a:ext cx="94212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352520" y="28544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22720" y="286848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8" name=""/>
          <p:cNvCxnSpPr/>
          <p:nvPr/>
        </p:nvCxnSpPr>
        <p:spPr>
          <a:xfrm>
            <a:off x="1560600" y="347184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9" name=""/>
          <p:cNvCxnSpPr/>
          <p:nvPr/>
        </p:nvCxnSpPr>
        <p:spPr>
          <a:xfrm flipH="1">
            <a:off x="1169280" y="3471840"/>
            <a:ext cx="39132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17560" y="37353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938240" y="374184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33720" y="1579680"/>
                <a:ext cx="290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932440" y="1471680"/>
                <a:ext cx="1824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84" name=""/>
          <p:cNvCxnSpPr/>
          <p:nvPr/>
        </p:nvCxnSpPr>
        <p:spPr>
          <a:xfrm>
            <a:off x="3430440" y="3485880"/>
            <a:ext cx="424800" cy="33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5" name=""/>
          <p:cNvCxnSpPr/>
          <p:nvPr/>
        </p:nvCxnSpPr>
        <p:spPr>
          <a:xfrm flipH="1">
            <a:off x="3029760" y="348588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98920" y="3773520"/>
                <a:ext cx="414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798720" y="3786120"/>
                <a:ext cx="41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6880" y="138744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5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2"/>
          </p:cNvCxnSpPr>
          <p:nvPr/>
        </p:nvCxnSpPr>
        <p:spPr>
          <a:xfrm>
            <a:off x="2501640" y="2301840"/>
            <a:ext cx="92916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1" idx="2"/>
          </p:cNvCxnSpPr>
          <p:nvPr/>
        </p:nvCxnSpPr>
        <p:spPr>
          <a:xfrm flipH="1">
            <a:off x="1559880" y="2301480"/>
            <a:ext cx="94212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08160" y="2854440"/>
                <a:ext cx="704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22720" y="286848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6" name=""/>
          <p:cNvCxnSpPr/>
          <p:nvPr/>
        </p:nvCxnSpPr>
        <p:spPr>
          <a:xfrm>
            <a:off x="1560600" y="347184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7" name=""/>
          <p:cNvCxnSpPr/>
          <p:nvPr/>
        </p:nvCxnSpPr>
        <p:spPr>
          <a:xfrm flipH="1">
            <a:off x="1169280" y="3471840"/>
            <a:ext cx="39132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38080" y="37148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38240" y="374184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60600" y="1579680"/>
                <a:ext cx="2248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22920" y="1486080"/>
                <a:ext cx="1778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5000" y="1387440"/>
            <a:ext cx="12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2"/>
          </p:cNvCxnSpPr>
          <p:nvPr/>
        </p:nvCxnSpPr>
        <p:spPr>
          <a:xfrm>
            <a:off x="2567160" y="2301840"/>
            <a:ext cx="86400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105" idx="2"/>
          </p:cNvCxnSpPr>
          <p:nvPr/>
        </p:nvCxnSpPr>
        <p:spPr>
          <a:xfrm flipH="1">
            <a:off x="1560240" y="2301480"/>
            <a:ext cx="100728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28680" y="2874960"/>
                <a:ext cx="66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98880" y="2868480"/>
                <a:ext cx="6634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0" name=""/>
          <p:cNvCxnSpPr/>
          <p:nvPr/>
        </p:nvCxnSpPr>
        <p:spPr>
          <a:xfrm>
            <a:off x="1560600" y="347184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 flipH="1">
            <a:off x="1169280" y="3471840"/>
            <a:ext cx="39132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17560" y="37353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17720" y="3741840"/>
                <a:ext cx="453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03640" y="1536840"/>
                <a:ext cx="2997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153120" y="1442880"/>
                <a:ext cx="2573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3411360" y="344952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flipH="1">
            <a:off x="3020760" y="3449520"/>
            <a:ext cx="39096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68680" y="371304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89360" y="371952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5000" y="1387440"/>
            <a:ext cx="12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1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2"/>
          </p:cNvCxnSpPr>
          <p:nvPr/>
        </p:nvCxnSpPr>
        <p:spPr>
          <a:xfrm>
            <a:off x="2567160" y="2301840"/>
            <a:ext cx="86400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3" idx="2"/>
          </p:cNvCxnSpPr>
          <p:nvPr/>
        </p:nvCxnSpPr>
        <p:spPr>
          <a:xfrm flipH="1">
            <a:off x="1560240" y="2301480"/>
            <a:ext cx="100728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52520" y="28544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057480" y="2868480"/>
                <a:ext cx="746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436920" y="1536840"/>
                <a:ext cx="2529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3411360" y="344952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1" name=""/>
          <p:cNvCxnSpPr/>
          <p:nvPr/>
        </p:nvCxnSpPr>
        <p:spPr>
          <a:xfrm flipH="1">
            <a:off x="3020760" y="3449520"/>
            <a:ext cx="39096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68680" y="3692520"/>
                <a:ext cx="455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672000" y="3726000"/>
                <a:ext cx="618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5, 6 – 5 #1 – 1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5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8T11:58:58Z</dcterms:modified>
  <cp:revision>75</cp:revision>
  <dc:subject/>
  <dc:title>Slide 1</dc:title>
</cp:coreProperties>
</file>